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9.png" ContentType="image/png"/>
  <Override PartName="/ppt/media/image5.gif" ContentType="image/gif"/>
  <Override PartName="/ppt/media/image14.jpeg" ContentType="image/jpeg"/>
  <Override PartName="/ppt/media/image4.png" ContentType="image/png"/>
  <Override PartName="/ppt/media/image26.png" ContentType="image/png"/>
  <Override PartName="/ppt/media/image21.png" ContentType="image/png"/>
  <Override PartName="/ppt/media/image19.png" ContentType="image/png"/>
  <Override PartName="/ppt/media/image18.gif" ContentType="image/gif"/>
  <Override PartName="/ppt/media/image23.png" ContentType="image/png"/>
  <Override PartName="/ppt/media/image20.gif" ContentType="image/gif"/>
  <Override PartName="/ppt/media/image17.png" ContentType="image/png"/>
  <Override PartName="/ppt/media/image16.png" ContentType="image/png"/>
  <Override PartName="/ppt/media/image27.jpeg" ContentType="image/jpeg"/>
  <Override PartName="/ppt/media/image1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68C1-5391-4584-8DBB-1D5316D8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7C43-C1AF-4CD1-93F4-A38955FC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BC6-DE91-4018-88C8-8D4D2E95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25F5-F57F-4B9F-BA1C-3B0F781A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951A-CBD9-49D9-91FE-C4DB317E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3AE1-B8B6-4289-892C-90EEE729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2FF8-31EE-4AD8-AF18-A7B8E778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B3D8-2CB2-496F-B7A1-CF9511A3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BC2F-B4C2-4223-A458-33636721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24B8-A66D-45B6-94C9-ABE8D9C9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1CFC-89B1-4D49-986A-DFF46862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80FC-3C3E-4F8F-B410-342235FA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D9CA-19EC-4AEE-8E63-09BCFFBA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8624-090B-4546-B436-DD816FD0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EFD6-4F34-4375-A0ED-D670803E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853E-0A41-4FC5-831F-552A6A09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7B61-CE9A-4D2F-9EB1-6BF74DF6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DF0B-24D9-4FA1-9EED-06F4907C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524F-837B-444C-9C75-4924F291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2417-15CA-4F08-AA98-2777BC1F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E252-0F3F-459C-AB90-F24F7604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CC71-4F0E-4A82-AE74-7F154610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B1CC-959E-4C5F-88F0-3E1C843D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7AB-EDAA-41B1-9A48-90298535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5CCC-3F86-4936-8C20-5F9042B40A4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86CF-41E8-4CB1-A0C6-E6443417194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school97.ru/foto/albums/userpics/10002/0998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208080"/>
            <a:ext cx="8242200" cy="3193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74152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087b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ru-RU" sz="2800" spc="-1" strike="noStrike">
                <a:solidFill>
                  <a:srgbClr val="fb8ecc"/>
                </a:solidFill>
                <a:latin typeface="Times New Roman"/>
              </a:rPr>
              <a:t>Учитель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8ecc"/>
                </a:solidFill>
                <a:latin typeface="Times New Roman"/>
              </a:rPr>
              <a:t>                                                                 </a:t>
            </a:r>
            <a:r>
              <a:rPr b="0" lang="ru-RU" sz="2800" spc="-1" strike="noStrike">
                <a:solidFill>
                  <a:srgbClr val="fb8ecc"/>
                </a:solidFill>
                <a:latin typeface="Times New Roman"/>
              </a:rPr>
              <a:t>Москвитина Л.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читель: Москвитина Л.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5" descr="C:\Documents and Settings\UserXP\Мои документы\Мои рисунки\12.02.2010\DSC00081.JPG"/>
          <p:cNvPicPr/>
          <p:nvPr/>
        </p:nvPicPr>
        <p:blipFill>
          <a:blip r:embed="rId2"/>
          <a:stretch/>
        </p:blipFill>
        <p:spPr>
          <a:xfrm>
            <a:off x="3000240" y="3286080"/>
            <a:ext cx="3576600" cy="26830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5"/>
          <p:cNvSpPr/>
          <p:nvPr/>
        </p:nvSpPr>
        <p:spPr>
          <a:xfrm>
            <a:off x="3543480" y="214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«Лицей№2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182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Documents and Settings\UserXP\Мои документы\1234523534_ramka-detskaja-1500kh1500-kopija.jpg"/>
          <p:cNvPicPr/>
          <p:nvPr/>
        </p:nvPicPr>
        <p:blipFill>
          <a:blip r:embed="rId2"/>
          <a:stretch/>
        </p:blipFill>
        <p:spPr>
          <a:xfrm>
            <a:off x="2236680" y="1600200"/>
            <a:ext cx="4670640" cy="4708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182600"/>
          </a:xfrm>
          <a:prstGeom prst="rect">
            <a:avLst/>
          </a:prstGeom>
          <a:ln w="0">
            <a:noFill/>
          </a:ln>
        </p:spPr>
      </p:pic>
      <p:pic>
        <p:nvPicPr>
          <p:cNvPr id="111" name="detskie_pesni_-_dorogoiu_dobra.mp3" descr=""/>
          <p:cNvPicPr/>
          <p:nvPr/>
        </p:nvPicPr>
        <p:blipFill>
          <a:blip r:embed="rId2"/>
          <a:stretch/>
        </p:blipFill>
        <p:spPr>
          <a:xfrm>
            <a:off x="8501040" y="6072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Documents and Settings\UserXP\Мои документы\Мои рисунки\старушка.jpg"/>
          <p:cNvPicPr/>
          <p:nvPr/>
        </p:nvPicPr>
        <p:blipFill>
          <a:blip r:embed="rId3"/>
          <a:stretch/>
        </p:blipFill>
        <p:spPr>
          <a:xfrm>
            <a:off x="428760" y="1357200"/>
            <a:ext cx="5181480" cy="3665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23277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182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C:\Documents and Settings\UserXP\Мои документы\Мои рисунки\старушка.jpg"/>
          <p:cNvPicPr/>
          <p:nvPr/>
        </p:nvPicPr>
        <p:blipFill>
          <a:blip r:embed="rId2"/>
          <a:stretch/>
        </p:blipFill>
        <p:spPr>
          <a:xfrm>
            <a:off x="428760" y="1357200"/>
            <a:ext cx="5181480" cy="3665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1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4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C:\Documents and Settings\UserXP\Рабочий стол\самая лорик\руки.jpg"/>
          <p:cNvPicPr/>
          <p:nvPr/>
        </p:nvPicPr>
        <p:blipFill>
          <a:blip r:embed="rId2"/>
          <a:stretch/>
        </p:blipFill>
        <p:spPr>
          <a:xfrm>
            <a:off x="663480" y="1500120"/>
            <a:ext cx="3627360" cy="4626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Мне понравилось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Меня удивило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Меня поразило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Мне удалось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142640"/>
            <a:ext cx="822960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61080" indent="-271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eb1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Черты характера»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710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зартный                     Надёж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710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ктивный                    Напорист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710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ккуратный                Необыч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710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жливый                   Самостоятель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710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сёлый                       Самый-сам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710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нимательный           Сердеч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710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левой                        Стойк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710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бродушный             Счастлив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710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нергичный                Юрк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710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рзкий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710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лов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710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асков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710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овк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710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юбопыт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71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710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6" descr="C:\Documents and Settings\UserXP\Мои документы\анимация\gif041.gif"/>
          <p:cNvPicPr/>
          <p:nvPr/>
        </p:nvPicPr>
        <p:blipFill>
          <a:blip r:embed="rId2"/>
          <a:stretch/>
        </p:blipFill>
        <p:spPr>
          <a:xfrm>
            <a:off x="6215040" y="1143000"/>
            <a:ext cx="1000080" cy="1500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14360" y="493560"/>
            <a:ext cx="8242200" cy="10540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42640" y="1571760"/>
            <a:ext cx="6629400" cy="35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ветить на вопрос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предметы любимые в школ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не нравится в школ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нравится в школ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УЕМ БРАСЛЕТ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igor_krutoy_-_ves_mir-liubov.mp3" descr=""/>
          <p:cNvPicPr/>
          <p:nvPr/>
        </p:nvPicPr>
        <p:blipFill>
          <a:blip r:embed="rId2"/>
          <a:stretch/>
        </p:blipFill>
        <p:spPr>
          <a:xfrm>
            <a:off x="8777160" y="6072120"/>
            <a:ext cx="36684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Documents and Settings\UserXP\Мои документы\анимация\часы\n5.gif"/>
          <p:cNvPicPr/>
          <p:nvPr/>
        </p:nvPicPr>
        <p:blipFill>
          <a:blip r:embed="rId3"/>
          <a:stretch/>
        </p:blipFill>
        <p:spPr>
          <a:xfrm>
            <a:off x="7643880" y="1357200"/>
            <a:ext cx="961920" cy="1000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3" descr=""/>
          <p:cNvPicPr/>
          <p:nvPr/>
        </p:nvPicPr>
        <p:blipFill>
          <a:blip r:embed="rId2"/>
          <a:stretch/>
        </p:blipFill>
        <p:spPr>
          <a:xfrm>
            <a:off x="558720" y="1819440"/>
            <a:ext cx="8026560" cy="4268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3" descr=""/>
          <p:cNvPicPr/>
          <p:nvPr/>
        </p:nvPicPr>
        <p:blipFill>
          <a:blip r:embed="rId2"/>
          <a:stretch/>
        </p:blipFill>
        <p:spPr>
          <a:xfrm>
            <a:off x="507960" y="1650960"/>
            <a:ext cx="8128080" cy="4606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Картинка 8 из 1187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85960" y="1785960"/>
            <a:ext cx="5424480" cy="406872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2500200" y="635796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ленькая пере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869320" cy="1158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UserXP\Мои документы\анимация\часы\a22.gif"/>
          <p:cNvPicPr/>
          <p:nvPr/>
        </p:nvPicPr>
        <p:blipFill>
          <a:blip r:embed="rId2"/>
          <a:stretch/>
        </p:blipFill>
        <p:spPr>
          <a:xfrm>
            <a:off x="7000920" y="1214280"/>
            <a:ext cx="1266840" cy="1047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28400" y="150012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Добро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Жадность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Хвастливость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Ответственность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Эгоизм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Честность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Равнодуш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Уважен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182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Documents and Settings\UserXP\Мои документы\анимация\animals017.gif"/>
          <p:cNvPicPr/>
          <p:nvPr/>
        </p:nvPicPr>
        <p:blipFill>
          <a:blip r:embed="rId2"/>
          <a:stretch/>
        </p:blipFill>
        <p:spPr>
          <a:xfrm>
            <a:off x="6572160" y="857160"/>
            <a:ext cx="2214720" cy="1714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7"/>
          <p:cNvSpPr/>
          <p:nvPr/>
        </p:nvSpPr>
        <p:spPr>
          <a:xfrm>
            <a:off x="1571760" y="2643120"/>
            <a:ext cx="678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Кто в вашей группе самый </a:t>
            </a:r>
            <a:r>
              <a:rPr b="1" i="1" lang="ru-RU" sz="2400" spc="-1" strike="noStrike">
                <a:solidFill>
                  <a:srgbClr val="fb8ecc"/>
                </a:solidFill>
                <a:latin typeface="Arial"/>
              </a:rPr>
              <a:t>честный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то </a:t>
            </a:r>
            <a:r>
              <a:rPr b="1" i="1" lang="ru-RU" sz="2400" spc="-1" strike="noStrike">
                <a:solidFill>
                  <a:srgbClr val="fb8ecc"/>
                </a:solidFill>
                <a:latin typeface="Arial"/>
              </a:rPr>
              <a:t>уважительн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носится к окружающи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то самый </a:t>
            </a:r>
            <a:r>
              <a:rPr b="1" i="1" lang="ru-RU" sz="2400" spc="-1" strike="noStrike">
                <a:solidFill>
                  <a:srgbClr val="fb8ecc"/>
                </a:solidFill>
                <a:latin typeface="Arial"/>
              </a:rPr>
              <a:t>добрый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то самый </a:t>
            </a:r>
            <a:r>
              <a:rPr b="1" i="1" lang="ru-RU" sz="2400" spc="-1" strike="noStrike">
                <a:solidFill>
                  <a:srgbClr val="fb8ecc"/>
                </a:solidFill>
                <a:latin typeface="Arial"/>
              </a:rPr>
              <a:t>ответственный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3T16:54:15Z</dcterms:created>
  <dc:creator>UserXP</dc:creator>
  <dc:description/>
  <dc:language>en-US</dc:language>
  <cp:lastModifiedBy>UserXP</cp:lastModifiedBy>
  <dcterms:modified xsi:type="dcterms:W3CDTF">2010-11-21T08:55:30Z</dcterms:modified>
  <cp:revision>66</cp:revision>
  <dc:subject/>
  <dc:title>Слайд 1</dc:title>
</cp:coreProperties>
</file>